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564E-9321-4369-B328-DD956C05E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E52B-281F-4B44-BD13-AD8767E4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EDF2-B865-4A82-88BD-FE7B057D0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03A8-299B-4AEA-A8AC-B0BCB6B7B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B241-75BC-4E91-8170-0864D4C7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EC5D-8D52-479B-B4FD-4D700916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05F8-4C55-4D9A-B06E-14DE6BD7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8AEF-6902-408B-8C87-7F7CD1F8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DFAE-A414-4EAF-95D0-151EED28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69EB-D9A0-4CA4-AE96-9992668C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A2A2-91FE-4657-962D-EAD8C774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5103-E6A0-4036-A7F0-29D76260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7FFC-70B1-4601-A61E-97F98337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C945-3D3E-4030-9D0A-CD1974D7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4EE6-8CED-4B98-A78F-3E68C6E3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FDD9-6C72-46FB-8EFD-132168D6B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4C28-F060-4040-AF8E-7A365D90B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4340-29A0-4AD7-AAFD-3562537E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61DC-90DF-48B8-AA51-0D896E6F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44E8-CBF7-4CFC-BC27-2404243B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8961-D0B7-4641-ABA1-3A363D29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FE4B-465F-47E6-AD8E-76BB18C1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DE49-0224-41C7-8B4E-466EE29B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3EED-EAA2-4727-802B-FCA8F247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E254-BA92-4BD2-9D98-5B1598E100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D3FC-9153-4605-8A6A-D905CD08AA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t.wikipedia.org/wiki/Ficheiro:Gon&#231;alves_Dias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com.br/imgres?imgurl=http://sendaluznolar.no.sapo.pt/grav-paisagem.jpg&amp;imgrefurl=http://paisagensbonitas.blogspot.com/2008/03/paisagem-cachoeira_04.html&amp;h=818&amp;w=1178&amp;sz=161&amp;tbnid=a_TQFXtr7T0stM:&amp;tbnh=104&amp;tbnw=150&amp;prev=/images%3Fq%3Dpaisagem&amp;hl=pt-BR&amp;usg=__PNGn6KELQ6dnkl3rXTA9NXiZ314=&amp;ei=aiYgSryrDJXhtgfvtfG_Bg&amp;sa=X&amp;oi=image_result&amp;resnum=1&amp;ct=image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google.com.br/imgres?imgurl=http://sendaluznolar.no.sapo.pt/grav-paisagem.jpg&amp;imgrefurl=http://paisagensbonitas.blogspot.com/2008/03/paisagem-cachoeira_04.html&amp;h=818&amp;w=1178&amp;sz=161&amp;tbnid=a_TQFXtr7T0stM:&amp;tbnh=104&amp;tbnw=150&amp;prev=/images%3Fq%3Dpaisagem&amp;hl=pt-BR&amp;usg=__PNGn6KELQ6dnkl3rXTA9NXiZ314=&amp;ei=aiYgSryrDJXhtgfvtfG_Bg&amp;sa=X&amp;oi=image_result&amp;resnum=1&amp;ct=image" TargetMode="External"/><Relationship Id="rId6" Type="http://schemas.openxmlformats.org/officeDocument/2006/relationships/image" Target="../media/image2.jpeg"/><Relationship Id="rId7" Type="http://schemas.openxmlformats.org/officeDocument/2006/relationships/hyperlink" Target="http://www.google.com.br/imgres?imgurl=http://sendaluznolar.no.sapo.pt/grav-paisagem.jpg&amp;imgrefurl=http://paisagensbonitas.blogspot.com/2008/03/paisagem-cachoeira_04.html&amp;h=818&amp;w=1178&amp;sz=161&amp;tbnid=a_TQFXtr7T0stM:&amp;tbnh=104&amp;tbnw=150&amp;prev=/images%3Fq%3Dpaisagem&amp;hl=pt-BR&amp;usg=__PNGn6KELQ6dnkl3rXTA9NXiZ314=&amp;ei=aiYgSryrDJXhtgfvtfG_Bg&amp;sa=X&amp;oi=image_result&amp;resnum=1&amp;ct=image" TargetMode="External"/><Relationship Id="rId8" Type="http://schemas.openxmlformats.org/officeDocument/2006/relationships/image" Target="../media/image2.jpeg"/><Relationship Id="rId9" Type="http://schemas.openxmlformats.org/officeDocument/2006/relationships/hyperlink" Target="http://www.google.com.br/imgres?imgurl=http://sendaluznolar.no.sapo.pt/grav-paisagem.jpg&amp;imgrefurl=http://paisagensbonitas.blogspot.com/2008/03/paisagem-cachoeira_04.html&amp;h=818&amp;w=1178&amp;sz=161&amp;tbnid=a_TQFXtr7T0stM:&amp;tbnh=104&amp;tbnw=150&amp;prev=/images%3Fq%3Dpaisagem&amp;hl=pt-BR&amp;usg=__PNGn6KELQ6dnkl3rXTA9NXiZ314=&amp;ei=aiYgSryrDJXhtgfvtfG_Bg&amp;sa=X&amp;oi=image_result&amp;resnum=1&amp;ct=image" TargetMode="External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.br/imgres?imgurl=http://www.guaramatias.com.br/CRESCER/natureza.jpg&amp;imgrefurl=http://www.guaramatias.com.br/&amp;h=319&amp;w=425&amp;sz=188&amp;tbnid=LVLZctDBXnN7kM:&amp;tbnh=95&amp;tbnw=126&amp;prev=/images%3Fq%3Dfotos%2Bda%2Bnatureza&amp;hl=pt-BR&amp;usg=__nNhOOUOUvfMJkg15mKhTa6bwAl4=&amp;ei=5SEgSr-HMMLgtgfau5XOBg&amp;sa=X&amp;oi=image_result&amp;resnum=2&amp;ct=image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.br/imgres?imgurl=http://2.bp.blogspot.com/_EkB85PPBZDA/SVmENFCaL-I/AAAAAAAAACQ/oQLf4pIADng/s320/ceu_estrelado.jpg&amp;imgrefurl=http://poesiadegraca.blogspot.com/2008/12/um-encanto-e-uma-certeza.html&amp;h=245&amp;w=320&amp;sz=17&amp;tbnid=IbP0RGpqZlvYxM:&amp;tbnh=90&amp;tbnw=118&amp;prev=/images%3Fq%3Dc%25C3%25A9u%2Bestrelado&amp;hl=pt-BR&amp;usg=__O9FAIPLgl5_wS0w6uwkL4LqA97Y=&amp;ei=qjYgStzoFuGntgestqjJBg&amp;sa=X&amp;oi=image_result&amp;resnum=4&amp;ct=image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google.com.br/imgres?imgurl=http://2.bp.blogspot.com/_EkB85PPBZDA/SVmENFCaL-I/AAAAAAAAACQ/oQLf4pIADng/s320/ceu_estrelado.jpg&amp;imgrefurl=http://poesiadegraca.blogspot.com/2008/12/um-encanto-e-uma-certeza.html&amp;h=245&amp;w=320&amp;sz=17&amp;tbnid=IbP0RGpqZlvYxM:&amp;tbnh=90&amp;tbnw=118&amp;prev=/images%3Fq%3Dc%25C3%25A9u%2Bestrelado&amp;hl=pt-BR&amp;usg=__O9FAIPLgl5_wS0w6uwkL4LqA97Y=&amp;ei=qjYgStzoFuGntgestqjJBg&amp;sa=X&amp;oi=image_result&amp;resnum=4&amp;ct=image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.br/imgres?imgurl=http://www.avespantanal.com.br/imagens/265%2520-%2520Sabi&#225;-barranco/sabi&#225;-barranco-2526-72.jpg&amp;imgrefurl=http://www.avespantanal.com.br/paginas/265.htm&amp;h=467&amp;w=700&amp;sz=63&amp;tbnid=jyWi2ThqIHQ04M:&amp;tbnh=93&amp;tbnw=140&amp;prev=/images%3Fq%3Dfoto%2Bde%2Bsabi%25C3%25A1&amp;hl=pt-BR&amp;usg=__ozymumANR-eJZq8Y7rnCz_dsGfQ=&amp;ei=TCMgSqa_BY6WtgffopnbBg&amp;sa=X&amp;oi=image_result&amp;resnum=2&amp;ct=image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920" y="76464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ff33"/>
                </a:solidFill>
                <a:latin typeface="comic"/>
              </a:rPr>
              <a:t>CANÇÃO DO EXÍLIO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99640" y="292428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"/>
              </a:rPr>
              <a:t>                             </a:t>
            </a:r>
            <a:r>
              <a:rPr b="0" lang="en-US" sz="3200" spc="-1" strike="noStrike">
                <a:solidFill>
                  <a:srgbClr val="66ff33"/>
                </a:solidFill>
                <a:latin typeface="comic"/>
              </a:rPr>
              <a:t>Gonçalves Dias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844640"/>
            <a:ext cx="3549600" cy="501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http://paisagensbonitas.blogspot.com/2008/03/paisagem-cachoeira_04.htm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715160" y="5589720"/>
            <a:ext cx="1428840" cy="990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http://paisagensbonitas.blogspot.com/2008/03/paisagem-cachoeira_04.htm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715160" y="5661000"/>
            <a:ext cx="1428840" cy="990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http://paisagensbonitas.blogspot.com/2008/03/paisagem-cachoeira_04.html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715160" y="5661000"/>
            <a:ext cx="1428840" cy="990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http://paisagensbonitas.blogspot.com/2008/03/paisagem-cachoeira_04.html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715160" y="5661000"/>
            <a:ext cx="1428840" cy="990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http://www.guaramatias.com.br/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33480"/>
            <a:ext cx="8604360" cy="64846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comic"/>
              </a:rPr>
              <a:t>Minha terra tem palmeira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comic"/>
              </a:rPr>
              <a:t> Onde canta o sabiá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comic"/>
              </a:rPr>
              <a:t>As aves que aqui gorjeiam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comic"/>
              </a:rPr>
              <a:t>não gorjeiam como LÁ</a:t>
            </a:r>
            <a:r>
              <a:rPr b="1" lang="en-US" sz="5400" spc="-1" strike="noStrike">
                <a:solidFill>
                  <a:srgbClr val="008000"/>
                </a:solidFill>
                <a:latin typeface="comic"/>
              </a:rPr>
              <a:t>.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 advTm="4000">
    <p:checker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http://poesiadegraca.blogspot.com/2008/12/um-encanto-e-uma-certeza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96720" y="-417600"/>
            <a:ext cx="9540720" cy="7275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http://poesiadegraca.blogspot.com/2008/12/um-encanto-e-uma-certeza.htm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360" y="1031760"/>
            <a:ext cx="2850840" cy="21751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51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comic"/>
              </a:rPr>
              <a:t>Nosso céu tem mais estrel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comic"/>
              </a:rPr>
              <a:t>Nossas várzeas têm mais flore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comic"/>
              </a:rPr>
              <a:t>Nossos bosques têm mais vid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comic"/>
              </a:rPr>
              <a:t>Nossa vida mais amores</a:t>
            </a:r>
            <a:r>
              <a:rPr b="1" lang="en-US" sz="4000" spc="-1" strike="noStrike">
                <a:solidFill>
                  <a:srgbClr val="66ff33"/>
                </a:solidFill>
                <a:latin typeface="Arial Black"/>
              </a:rPr>
              <a:t>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 advTm="4000">
    <p:checker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http://www.avespantanal.com.br/paginas/265.ht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468360" y="0"/>
            <a:ext cx="10118880" cy="6721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comic"/>
              </a:rPr>
              <a:t>Em cismar, sozinho à noit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comic"/>
              </a:rPr>
              <a:t>Mais prazer eu encontro lá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comic"/>
              </a:rPr>
              <a:t>Minha terra têm palmeiras, 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comic"/>
              </a:rPr>
              <a:t>Onde canta o sabiá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 advTm="4000">
    <p:checker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http://pedacosvida.blogspot.com/2006/02/cu-estrelado.html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51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"/>
              </a:rPr>
              <a:t>Minha terra tem primores,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comic"/>
              </a:rPr>
              <a:t>Que tais não encontro eu cá;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comic"/>
              </a:rPr>
              <a:t>Em cismar sozinho,à noite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comic"/>
              </a:rPr>
              <a:t>Mais prazer  encontro eu lá,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comic"/>
              </a:rPr>
              <a:t>Minha terra tem palmeiras 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comic"/>
              </a:rPr>
              <a:t>Onde canta o sabiá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 advTm="4000">
    <p:checker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http://blogdaingrith.blogspot.com/2007_12_01_archive.html"/>
          <p:cNvPicPr/>
          <p:nvPr/>
        </p:nvPicPr>
        <p:blipFill>
          <a:blip r:embed="rId1"/>
          <a:stretch/>
        </p:blipFill>
        <p:spPr>
          <a:xfrm>
            <a:off x="1692360" y="0"/>
            <a:ext cx="67993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659880" cy="63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omic"/>
              </a:rPr>
              <a:t>Não permita Deus que eu morra,</a:t>
            </a:r>
            <a:br>
              <a:rPr sz="4400"/>
            </a:br>
            <a:r>
              <a:rPr b="1" lang="en-US" sz="4400" spc="-1" strike="noStrike">
                <a:solidFill>
                  <a:srgbClr val="006600"/>
                </a:solidFill>
                <a:latin typeface="comic"/>
              </a:rPr>
              <a:t>Sem que eu volte para lá</a:t>
            </a:r>
            <a:br>
              <a:rPr sz="4400"/>
            </a:br>
            <a:r>
              <a:rPr b="1" lang="en-US" sz="4400" spc="-1" strike="noStrike">
                <a:solidFill>
                  <a:srgbClr val="006600"/>
                </a:solidFill>
                <a:latin typeface="comic"/>
              </a:rPr>
              <a:t>Sem que desfrute dos primores</a:t>
            </a:r>
            <a:br>
              <a:rPr sz="4400"/>
            </a:br>
            <a:r>
              <a:rPr b="1" lang="en-US" sz="4400" spc="-1" strike="noStrike">
                <a:solidFill>
                  <a:srgbClr val="006600"/>
                </a:solidFill>
                <a:latin typeface="comic"/>
              </a:rPr>
              <a:t>Que não encontro por cá,</a:t>
            </a:r>
            <a:br>
              <a:rPr sz="4400"/>
            </a:br>
            <a:r>
              <a:rPr b="1" lang="en-US" sz="4400" spc="-1" strike="noStrike">
                <a:solidFill>
                  <a:srgbClr val="006600"/>
                </a:solidFill>
                <a:latin typeface="comic"/>
              </a:rPr>
              <a:t>Sem que ainda aviste as palmeiras,</a:t>
            </a:r>
            <a:br>
              <a:rPr sz="4400"/>
            </a:br>
            <a:r>
              <a:rPr b="1" lang="en-US" sz="4400" spc="-1" strike="noStrike">
                <a:solidFill>
                  <a:srgbClr val="006600"/>
                </a:solidFill>
                <a:latin typeface="comic"/>
              </a:rPr>
              <a:t>Onde canta o sabiá</a:t>
            </a:r>
            <a:r>
              <a:rPr b="1" lang="en-US" sz="4000" spc="-1" strike="noStrike">
                <a:solidFill>
                  <a:srgbClr val="006600"/>
                </a:solidFill>
                <a:latin typeface="Arial Black"/>
              </a:rPr>
              <a:t>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 advTm="4000">
    <p:checker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cé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244440"/>
            <a:ext cx="8447040" cy="635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b7"/>
                </a:solidFill>
                <a:latin typeface="Arial Black"/>
              </a:rPr>
              <a:t>ESCOLA ESTADUAL SENADOR FILINTO MULLER</a:t>
            </a:r>
            <a:br>
              <a:rPr sz="4000"/>
            </a:br>
            <a:br>
              <a:rPr sz="4000"/>
            </a:br>
            <a:r>
              <a:rPr b="1" lang="pt-BR" sz="4000" spc="-1" strike="noStrike">
                <a:solidFill>
                  <a:srgbClr val="ffffb7"/>
                </a:solidFill>
                <a:latin typeface="Arial Black"/>
              </a:rPr>
              <a:t>Slides elaborado pela profª - SONIA PINEZE DEFENDE</a:t>
            </a:r>
            <a:br>
              <a:rPr sz="4000"/>
            </a:br>
            <a:r>
              <a:rPr b="1" lang="pt-BR" sz="4000" spc="-1" strike="noStrike">
                <a:solidFill>
                  <a:srgbClr val="ffffb7"/>
                </a:solidFill>
                <a:latin typeface="Arial Black"/>
              </a:rPr>
              <a:t>Orientação:</a:t>
            </a:r>
            <a:br>
              <a:rPr sz="4000"/>
            </a:br>
            <a:r>
              <a:rPr b="1" lang="pt-BR" sz="4000" spc="-1" strike="noStrike">
                <a:solidFill>
                  <a:srgbClr val="ffffb7"/>
                </a:solidFill>
                <a:latin typeface="Arial Black"/>
              </a:rPr>
              <a:t>PROFª -  MARTA ROQUE</a:t>
            </a:r>
            <a:br>
              <a:rPr sz="4000"/>
            </a:br>
            <a:br>
              <a:rPr sz="4000"/>
            </a:br>
            <a:r>
              <a:rPr b="1" lang="pt-BR" sz="4000" spc="-1" strike="noStrike">
                <a:solidFill>
                  <a:srgbClr val="ffffb7"/>
                </a:solidFill>
                <a:latin typeface="Arial Black"/>
              </a:rPr>
              <a:t>Ivinhema – MS </a:t>
            </a:r>
            <a:br>
              <a:rPr sz="4000"/>
            </a:br>
            <a:r>
              <a:rPr b="1" lang="pt-BR" sz="4000" spc="-1" strike="noStrike">
                <a:solidFill>
                  <a:srgbClr val="ffffb7"/>
                </a:solidFill>
                <a:latin typeface="Arial Black"/>
              </a:rPr>
              <a:t>29/05/2009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 advTm="4000">
    <p:checker dir="horz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17:28:09Z</dcterms:created>
  <dc:creator>Escola</dc:creator>
  <dc:description/>
  <dc:language>en-US</dc:language>
  <cp:lastModifiedBy>Escola</cp:lastModifiedBy>
  <dcterms:modified xsi:type="dcterms:W3CDTF">2009-05-29T20:06:46Z</dcterms:modified>
  <cp:revision>3</cp:revision>
  <dc:subject/>
  <dc:title>CANÇÃO DO EXÍLIO</dc:title>
</cp:coreProperties>
</file>